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4BC-F4FE-4FF0-A436-BEF79395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391-9140-4E09-BCF5-EBDF35C2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A9A-DB41-4E3B-9DA0-50864700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009-BDF7-49A3-8B57-34D16A6C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8B7-F10C-4A0E-9B0E-38B8C2DE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965-1C4B-4710-A79A-F46C2950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2C4-4C26-42EA-9DF4-5A07591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78F-F3FC-4540-B2FE-2D85D341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915-AEEC-441C-AA50-3609D32E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332-5421-45D9-90B3-3C56562A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A5D-6C9B-4483-AF27-C579C616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BFC-42D2-48C2-8025-1982BCA6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1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64A-03B6-49A7-9EAF-3A6D505BD4B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Sfondo"/>
          <p:cNvPicPr/>
          <p:nvPr/>
        </p:nvPicPr>
        <p:blipFill>
          <a:blip r:embed="rId2"/>
          <a:stretch/>
        </p:blipFill>
        <p:spPr>
          <a:xfrm>
            <a:off x="0" y="5532480"/>
            <a:ext cx="9144000" cy="135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opo e campo di applic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esente procedura descrive le responsabilità specifiche, le modalità operative e la modulistica utilizzata da Valoritalia per la gestione del controllo ispettivo nei vigneti, al fine della verifica della persistenza delle condizioni per l’iscrizione all’Albo dei Vigneti o Potenziale Viticolo e il controllo della resa massima poten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428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petto sistema di allevamento e potatu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petto densità di impianto; Assenza di pratiche di forzatura incompatibi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rettezza pratiche agronom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rispondenza tra superficie iscritta all’Albo Vigneti/Potenziale Viticolo/Schedario e quella realmente presente in campag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cnico segnala sul verbale qualsiasi anomalia riscontrata, anche quelle documentali, osservate nell’incrociare i dati contenuti nei vari arch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760" y="12139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rilievo della superficie ci si attiene alla definizione: “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La superficie vitata è delimitata dal perimetro esterno dei ceppi di vite a cui si aggiunge una fascia cuscinetto di larghezza pari a metà della distanza tra i filari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rt. 75 del reg. 555/08- relativa alla Ristrutturazione Vigneti ed Estirpazione a Premio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Tolleranza di mi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% la tolleranza di misura delle superfici vi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llanze di viti segnalate qualora superino il 10% del numero totale di ceppi, salvo indicazioni specifiche dei disciplinari di produ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iconsegna del fasc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cnico riconsegna il fascicolo completo della documentazione (Albo, foto, estratto fascicolo aziendale, visura catastale, ecc.) e copia del verbale (compilato in ogni sua parte e sottoscritto dal tecnico e dall’azienda) entro 5 gg dalla data dell’accert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dalità operati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cheda 4 Viticol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redisposizione fasc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di scheda 3 viticol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16430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calcolo della resa massima per etta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re 3 aree di saggio nel vigneto, filari rappresentativi evitando i bordi sondando tutta la lunghez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a dei grappoli su 10 ceppi per a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terminare il peso medio del grappolo con la pesatura di 30 grappoli prelevati casualmente dalle aree di sagg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terminare il numero medio di grappoli per cep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terminazione della produzione media per cep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terminazione della produzione per etta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28592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caso la determinazione della produzione media avvenga prima all’invaiatura o per confronto il peso medio del grappolo si stima usando tabelle variet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sa ad Ettaro calcolata (kg) =  A * [ (B*C)/D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= n° ceppi per ett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 = n° grappoli campio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 = peso medio del grappolo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 = n° ceppi campionati (almeno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tima della resa deve tener conto del supero di campagna e del possibile margine d’err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di stima della produzione ad ettaro deve essere confrontato con quanto prescritto dal disciplinare di produ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ora riscontrata un’eccedenza di produzione  resa/ha della D.O. più supero l’azienda dovrà ricondurre la resa alle prescrizioni di leg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alternativa, nei casi ove il Disciplinare e la resa stimata lo consentano, l’azienda può dichiarare di variare la destinazione del prodotto verso una scelta vendemmiale che preveda una resa compati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2000160"/>
            <a:ext cx="8229600" cy="30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iconsegna del fasc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di scheda 3 viticol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cumenti di rif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DM 29/03/200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DM 13/7/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D.M. 17/7/200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Disciplinare di Produzione della D.O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Schedario Vitivinicolo (…e similar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Albo vigneto o Potenziale Vitico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Schema Piano Control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128556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mpione aziende oggetto dell’ispe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Verifica delle condizioni per l’iscrizione all’Al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anno controllato un numero di aziende che rappresenti il 15% della superficie produttiva complessiva rivendicata l’anno prece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 secondo anno sorteggio di un numero di aziende, già sottoposte a controllo, che rappresenti il 3% della produzione complessiva rivendic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’ottavo anno di attività o al completamento del 100%, visite ridotte all’8% della superficie rivendic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7143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mpione aziende oggetto dell’ispe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Verifica della resa massima uva/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anno controllato un numero di aziende che rappresenti il 10% della superficie produttiva complessiva rivendicata nell’anno prece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 secondo anno sorteggio di un numero di aziende, già sottoposte a controllo, che rappresenti il 3% della produzione complessiva rivendic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ipo di contro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l Piano prevede due tipologie di sopralluoghi in vign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a 3 Viticoltore - verifica della persistenza delle condizioni per l’iscrizione all’Albo Vigneti, verifica caratteristiche “agronomiche” previste dal disciplinare di produzione (sesto d’impianto, forma d’allevamento, varietà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a 4 Viticoltore - effettuata ante-vendemmia, consiste nella verifica dell’osservanza della resa massima per etta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dalità operati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cheda 3 Viticol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redisposizione fasc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azienda predisposto fascicolo d’istrutto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tratto fascicolo aziendale con superfici vitate condot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sure catastali ed estratti di mappa (qualora necessar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nuncia dei vigneti e/o comunicazioni variazioni relative alle iscrizioni all’albo (qualora necessarie per identificare il vigneto iscritto o sia in corso variazione delle superfici iscritte all’albo – riduzione/aumento, espianto totale/parziale, variazione della conduzi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mpa foto aerea dei vigneti con l’indicazione delle superfici rilevate da GIS, ove possi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sura delle iscrizioni all’alb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ello Verbale da compilare e rilasciare all’atto della visita ispe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sta la disomogeneità delle banche dati si precisa che questo schema è generico e da adattare alle differenti realtà document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ttribuzione fascicolo istruttoria e modalità formali di vis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egna del fascicolo da controll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cnico concorderà con il responsabile aziendale la data della visi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sita ispettiva svolta alla presenza del responsabile aziendale o di suo incaricato di cui si annoteranno dati personali e numero documento di riconos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termine della visita compilazione del verbale sottoscritto da ambo le parti e rilascio copia all’azien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MANUALE OPERATIVO</a:t>
            </a:r>
            <a:br>
              <a:rPr sz="3200"/>
            </a:br>
            <a:r>
              <a:rPr b="1" lang="it-IT" sz="3200" spc="-1" strike="noStrike" u="sng">
                <a:solidFill>
                  <a:srgbClr val="85051a"/>
                </a:solidFill>
                <a:uFillTx/>
                <a:latin typeface="Arial"/>
              </a:rPr>
              <a:t>CONTROLLO ISPETTIVO VIGNETI</a:t>
            </a:r>
            <a:endParaRPr b="1" lang="en-US" sz="3200" spc="-1" strike="noStrike">
              <a:solidFill>
                <a:srgbClr val="85051a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60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opralluogo in vign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cnico effettua una “rappresentazione fotografica” della situazione dei vigneti iscritti all’albo e verif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bicazione interno della zona di produ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atibilità natura terreno, giacitura,altitudine s.l.m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atibilità esposizione sol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petto base ampelograf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9:24:33Z</dcterms:created>
  <dc:creator>Bruno Bernardi</dc:creator>
  <dc:description/>
  <dc:language>en-US</dc:language>
  <cp:lastModifiedBy>Utente</cp:lastModifiedBy>
  <dcterms:modified xsi:type="dcterms:W3CDTF">2010-01-21T11:19:20Z</dcterms:modified>
  <cp:revision>56</cp:revision>
  <dc:subject/>
  <dc:title>Diapositiva 1</dc:title>
</cp:coreProperties>
</file>