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3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54AC-43A7-42AB-B6DC-D0DF1F97C0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060200" y="4349520"/>
            <a:ext cx="47336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060200" y="4349520"/>
            <a:ext cx="47336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0622-917F-4597-B826-33EC9608603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5CC7-35D1-409F-BEFF-1D372999F28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BDE7-C4C4-4E50-8596-34A055AD611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1003320" y="695160"/>
            <a:ext cx="484812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A0CC-1571-45F9-90F0-4B161DB14DE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1003320" y="695160"/>
            <a:ext cx="484812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F3A-81AC-4E8C-80BD-E29AE51C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A18-5AAB-4338-A19C-8D316884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D3F-5D2D-4DC5-B109-E3AF6D4B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476-F573-4850-B70F-4DF06EC2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7960-92BC-40FE-A5A5-92B00688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F9F6-2E5F-479D-BB22-DEA9639D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65ED-BA06-4287-B3FD-466608CF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610C-8132-42AC-BF8B-4D51B49C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60D9-0FB8-4896-BB1D-66BC6294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1C90-70EC-40C2-BF8E-F4C05EE9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AE42-7535-4EE0-A696-1CECA18B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A96-3263-4F66-9E41-25183F8D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5436-2472-4359-8FC1-882E2074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F251-BB36-4A76-9755-946E2111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B1A6-737F-4726-8A32-53842C15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B7BA-F0CA-4A4C-8A93-26C43AF8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36D0-31E5-4EE5-B361-A9A324CC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F16D-1F5F-4712-B1F8-738B9D29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DEC6-E5BE-4870-B5CF-EA7C959F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6B4ED-098A-426B-B50A-22A81921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91C7-7E18-4E32-AFD5-7B0E5760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4373-BA27-447E-9E51-4C8B02E9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2FA0-7B6C-4F79-9A4D-43981D62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E56F0-82C3-4666-B1EB-4A6C3D96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B94D2-B752-42BB-B92D-A5EEA3E1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BBC7-616F-48CA-8E5B-27704798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F60C-105D-4719-AA3F-90CB9A91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99E4-E6F6-4C94-B807-22C95014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EF48-23B2-4FFF-8F1B-191F7C50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5B97-0B69-41E8-B00C-BFA2737D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ED3F-E48F-4915-8116-1196FD78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9475-6279-4CFE-85E8-187A4FAC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1CA42-3FAA-41CC-A2BD-14E25264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13F-1763-4224-B88B-D585CB9F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08BA-E07A-447A-916E-0C05649A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3203-D197-4572-874F-71A32975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78E60-332E-4995-802D-479DF441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DB6DA-6848-4E39-A84E-5E926ECE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2F3EB-535E-4A22-ABC0-F149D1A2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0B55A-24EF-4E72-8336-0E731CBD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8B744-F691-4E3B-BA4F-AE334424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B6146-3AA3-4A68-8BC7-B6F8DCD0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8884-FE0D-4829-A948-C4E64C41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D95-E392-4E21-8DCF-14553FD6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3FA-9464-4ADA-98EC-ED9D97D1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384-D610-4EC1-AD6B-3B4B50BE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6DD-D297-4CA5-A7E5-3AD9FF56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640-73EE-4E3C-A8F0-F94E429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3B3D-8B94-4F70-A57D-303713C8BECF}" type="datetime">
              <a:rPr b="0" lang="it-IT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1343-04BB-4E64-AE72-E4880F8EC5C4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99F3-4B6B-4E14-9142-8D513B18AD9F}" type="datetime">
              <a:rPr b="0" lang="it-IT" sz="1200" spc="-1" strike="noStrike">
                <a:solidFill>
                  <a:srgbClr val="d1eaee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BC43-9056-44BB-B1D4-568B7F145D1E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97EC-0878-4F67-810A-98787A06E036}" type="datetime">
              <a:rPr b="0" lang="it-IT" sz="1200" spc="-1" strike="noStrike">
                <a:solidFill>
                  <a:srgbClr val="d1eaee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D30E-8776-4E52-A611-D70E8B3BBFBE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3ECD-25DB-4793-86B9-45928E317C18}" type="datetime">
              <a:rPr b="0" lang="it-IT" sz="1200" spc="-1" strike="noStrike">
                <a:solidFill>
                  <a:srgbClr val="045c75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384D-727A-47D8-8C25-2A55D41E576D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olo 1" descr=""/>
          <p:cNvPicPr/>
          <p:nvPr/>
        </p:nvPicPr>
        <p:blipFill>
          <a:blip r:embed="rId1"/>
          <a:stretch/>
        </p:blipFill>
        <p:spPr>
          <a:xfrm>
            <a:off x="566640" y="281160"/>
            <a:ext cx="7864560" cy="4035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85640" y="4928760"/>
            <a:ext cx="4143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nstantia"/>
              </a:rPr>
              <a:t>Alba, 21 gennaio 201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214200" y="4500720"/>
            <a:ext cx="1857600" cy="1647720"/>
          </a:xfrm>
          <a:prstGeom prst="rect">
            <a:avLst/>
          </a:prstGeom>
          <a:ln w="0">
            <a:noFill/>
          </a:ln>
        </p:spPr>
      </p:pic>
      <p:sp>
        <p:nvSpPr>
          <p:cNvPr id="205" name="Segnaposto numero diapositiva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102A-1D6F-4D78-9394-E43F39347D5C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olo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582040" cy="12258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214200" y="1071720"/>
            <a:ext cx="8515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Per i vini DOP e IGP (DOC-DOCG-IGT) sono introdotte nuove ed importanti regole in materia di controllo per il rispetto dei requisiti previsti dai rispettivi disciplinari di produzi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"/>
              </a:rPr>
              <a:t>La verifica annuale del rispetto del disciplinare di produzione potrà essere effettuata d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499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"/>
              </a:rPr>
              <a:t>L’Autorità competente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"/>
              </a:rPr>
              <a:t>(art.47) è l’autorità centrale di uno S.M. competente per l’organizzazione dei controlli - per l’Italia è l’ICQ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"/>
              </a:rPr>
              <a:t>opp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499"/>
              </a:spcBef>
              <a:buClr>
                <a:srgbClr val="000000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nstantia"/>
                <a:ea typeface="Arial"/>
              </a:rPr>
              <a:t>Da uno o più Organismi di controllo che operano come organismi di certificazione dei prodotti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"/>
              </a:rPr>
              <a:t>(art. 4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"/>
              </a:rPr>
              <a:t>L’organismo di controllo può essere pubblico o priva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"/>
              </a:rPr>
              <a:t>I consorzi di tutela non rientrano in tali Organism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C185-4BF6-44D9-9732-ADDBEC957430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42560" y="78552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Constantia"/>
              </a:rPr>
              <a:t>La Verifica annuale prevede 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nstantia"/>
              </a:rPr>
              <a:t>D.O.P.:        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- test organolettico e analitic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- verifica delle condizioni fissate nel disciplin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nstantia"/>
              </a:rPr>
              <a:t>I.G.P.:       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- test analitico o  analitico e organolettic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- verifica delle condizioni fissate  nel disciplinar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nstantia"/>
              </a:rPr>
              <a:t>tramite 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-   controlli casuali basati sull’analisi del rischio 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-   a campione 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-   sistematic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nstantia"/>
              </a:rPr>
              <a:t>La decisione è riservata ad ogni S.M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I prodotti che non superano il controllo non possono utilizzare il nome delle DO o I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Il costo dei controlli è a carico dei produttor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6AE3-CF9C-4C3D-B198-DEDE74EA1975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C:\Users\amedeo\Desktop\valoritalia\Valoritalia_logo.jpg"/>
          <p:cNvPicPr/>
          <p:nvPr/>
        </p:nvPicPr>
        <p:blipFill>
          <a:blip r:embed="rId1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ext Box 1" descr=""/>
          <p:cNvPicPr/>
          <p:nvPr/>
        </p:nvPicPr>
        <p:blipFill>
          <a:blip r:embed="rId1"/>
          <a:stretch/>
        </p:blipFill>
        <p:spPr>
          <a:xfrm>
            <a:off x="-30240" y="573120"/>
            <a:ext cx="8541000" cy="6224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"/>
          <p:cNvSpPr/>
          <p:nvPr/>
        </p:nvSpPr>
        <p:spPr>
          <a:xfrm>
            <a:off x="214200" y="1285920"/>
            <a:ext cx="864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l Piano prevede due tipologie di contro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4572000" y="2714760"/>
            <a:ext cx="44290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600" spc="-1" strike="noStrike" u="sng">
                <a:solidFill>
                  <a:srgbClr val="000000"/>
                </a:solidFill>
                <a:uFillTx/>
                <a:latin typeface="Constantia"/>
              </a:rPr>
              <a:t>Controllo Ispettivo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: effettuato sul 15% min. della produzione: Controllo nei vigneti, negli stabilimenti di vinificazione ed imbottigliamento per verificare la corrispondenza di tutte le operazioni al Disciplinare di Produzio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14200" y="2786040"/>
            <a:ext cx="42865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000000"/>
                </a:solidFill>
                <a:uFillTx/>
                <a:latin typeface="Constantia"/>
              </a:rPr>
              <a:t>Controllo documentale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: effettuato sul 100% della produzione. Controllo di tutta la documentazione che le aziende sono già tenute a presentare per l’utilizzo della D.O.  (denunce uve, richieste certificazioni, documenti di vendita, ecc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 rot="19500000">
            <a:off x="5211720" y="2063880"/>
            <a:ext cx="457200" cy="714240"/>
          </a:xfrm>
          <a:prstGeom prst="downArrow">
            <a:avLst>
              <a:gd name="adj1" fmla="val 38889"/>
              <a:gd name="adj2" fmla="val 59776"/>
            </a:avLst>
          </a:prstGeom>
          <a:solidFill>
            <a:srgbClr val="59a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 rot="1740000">
            <a:off x="2882880" y="2060280"/>
            <a:ext cx="457200" cy="809640"/>
          </a:xfrm>
          <a:prstGeom prst="downArrow">
            <a:avLst>
              <a:gd name="adj1" fmla="val 38889"/>
              <a:gd name="adj2" fmla="val 59717"/>
            </a:avLst>
          </a:prstGeom>
          <a:solidFill>
            <a:srgbClr val="59a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numero diapositiva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3E50-851F-4945-BB5D-741DC3B3117B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olo 1" descr=""/>
          <p:cNvPicPr/>
          <p:nvPr/>
        </p:nvPicPr>
        <p:blipFill>
          <a:blip r:embed="rId1"/>
          <a:stretch/>
        </p:blipFill>
        <p:spPr>
          <a:xfrm>
            <a:off x="281160" y="133200"/>
            <a:ext cx="8240400" cy="1238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8786880" cy="4857840"/>
          </a:xfrm>
          <a:prstGeom prst="rect">
            <a:avLst/>
          </a:prstGeom>
          <a:ln w="0">
            <a:noFill/>
          </a:ln>
        </p:spPr>
      </p:pic>
      <p:sp>
        <p:nvSpPr>
          <p:cNvPr id="267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6787-B745-4D6F-9E73-B987EB02B819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C:\Users\amedeo\Desktop\valoritalia\Valoritalia_logo.jpg"/>
          <p:cNvPicPr/>
          <p:nvPr/>
        </p:nvPicPr>
        <p:blipFill>
          <a:blip r:embed="rId3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olo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231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271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E1ED-3C08-49A6-ACF3-0C7B7A949B91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C:\Users\amedeo\Desktop\valoritalia\Valoritalia_logo.jpg"/>
          <p:cNvPicPr/>
          <p:nvPr/>
        </p:nvPicPr>
        <p:blipFill>
          <a:blip r:embed="rId3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olo 1" descr=""/>
          <p:cNvPicPr/>
          <p:nvPr/>
        </p:nvPicPr>
        <p:blipFill>
          <a:blip r:embed="rId1"/>
          <a:stretch/>
        </p:blipFill>
        <p:spPr>
          <a:xfrm>
            <a:off x="281160" y="993600"/>
            <a:ext cx="8240400" cy="6591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00040" y="171432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0280" indent="-260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VALORITALIA è una società di certificazione, proviene dalla condivisione delle esperienze di FEDERDOC e CSQA Certificazion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VALORITALIA, corrisponde ai requisiti fissati dal Reg. CE 1234/2007 e dal Reg. CE 882/2004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iconosciuta dal MIPAAF con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Decreto 20 maggio 2009 ( G.U. 126 del 3 giugno 2009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0280" indent="-260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6951-3A77-42D3-9C55-31022142FCDE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olo 1" descr=""/>
          <p:cNvPicPr/>
          <p:nvPr/>
        </p:nvPicPr>
        <p:blipFill>
          <a:blip r:embed="rId1"/>
          <a:stretch/>
        </p:blipFill>
        <p:spPr>
          <a:xfrm>
            <a:off x="493560" y="566640"/>
            <a:ext cx="8242560" cy="652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2876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Opera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me organismo di </a:t>
            </a:r>
            <a:r>
              <a:rPr b="0" lang="it-IT" sz="2600" spc="-1" strike="noStrike" u="sng">
                <a:solidFill>
                  <a:srgbClr val="000000"/>
                </a:solidFill>
                <a:uFillTx/>
                <a:latin typeface="Constantia"/>
              </a:rPr>
              <a:t>controllo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- sui vini ad indicazione geografica, DOP e IGP (DOC,  DOCG e IGT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- sui vini  senza  indicazione geografica con riferimento alla varietà di vite e/o annat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Ope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me organismo di </a:t>
            </a:r>
            <a:r>
              <a:rPr b="0" lang="it-IT" sz="2600" spc="-1" strike="noStrike" u="sng">
                <a:solidFill>
                  <a:srgbClr val="000000"/>
                </a:solidFill>
                <a:uFillTx/>
                <a:latin typeface="Constantia"/>
              </a:rPr>
              <a:t>certificazione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in ambito volontario su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- prodotti/processi/servizi e sistemi di gestion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9051-28DF-4039-9244-8545BC88AC0F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olo 1" descr=""/>
          <p:cNvPicPr/>
          <p:nvPr/>
        </p:nvPicPr>
        <p:blipFill>
          <a:blip r:embed="rId1"/>
          <a:stretch/>
        </p:blipFill>
        <p:spPr>
          <a:xfrm>
            <a:off x="566640" y="353880"/>
            <a:ext cx="8242560" cy="122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28760" y="1714680"/>
            <a:ext cx="8472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È formata da 2 dipartimenti indipendenti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onstantia"/>
              </a:rPr>
              <a:t>Dipartimento regolamentato </a:t>
            </a: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si occupa delle attività svolte quale organismo di controllo dei prodotti ai sensi dei  disciplinari di produzione , decreti, regolamenti,  leggi, ecc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onstantia"/>
              </a:rPr>
              <a:t>Dipartimento volontario </a:t>
            </a: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si occupa di attività svolte quale organismo di certificazione accreditato a norme ( UNI CEI EN 45011- UNI CEI EN ISO 1702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L’elemento unificante dei due dipartimenti è il Comitato di Direzion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0280-4DC5-4632-A79F-9AE2CC8F0682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olo 1" descr=""/>
          <p:cNvPicPr/>
          <p:nvPr/>
        </p:nvPicPr>
        <p:blipFill>
          <a:blip r:embed="rId1"/>
          <a:stretch/>
        </p:blipFill>
        <p:spPr>
          <a:xfrm>
            <a:off x="433440" y="701640"/>
            <a:ext cx="8272440" cy="1224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28760" y="22147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l dipartimento regolamentato  è così compost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- Direttore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- Ufficio Operativo Central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- Uffici Operativi Periferic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- Coordinatori territorial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- Comitato Esecutivo di Controll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- Comitato di Appell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F2BC-B23B-44AE-AF64-43377C10AB70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olo 1" descr=""/>
          <p:cNvPicPr/>
          <p:nvPr/>
        </p:nvPicPr>
        <p:blipFill>
          <a:blip r:embed="rId1"/>
          <a:stretch/>
        </p:blipFill>
        <p:spPr>
          <a:xfrm>
            <a:off x="-6480" y="603360"/>
            <a:ext cx="8869320" cy="10494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28760" y="2357280"/>
            <a:ext cx="822960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redisporre i piani di controll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Gestire i dati delle varie UOP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orveglianza sulla corretta esecuzione delle attività di controll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orveglianza sull’adeguatezza delle risorse interne ed esterne per l’attività di controllo da parte delle UOP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5D9A-211E-4C75-818F-12F635286E63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ext Box 1" descr=""/>
          <p:cNvPicPr/>
          <p:nvPr/>
        </p:nvPicPr>
        <p:blipFill>
          <a:blip r:embed="rId1"/>
          <a:stretch/>
        </p:blipFill>
        <p:spPr>
          <a:xfrm>
            <a:off x="353880" y="573120"/>
            <a:ext cx="7832880" cy="6224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"/>
          <p:cNvSpPr/>
          <p:nvPr/>
        </p:nvSpPr>
        <p:spPr>
          <a:xfrm>
            <a:off x="324000" y="1428840"/>
            <a:ext cx="85341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 pubblicazione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del Regolamento Comunitario 479/08 inserito nel 1234/07 consolidato diviene operativa la nuova Organizzazione Comune di mercato (OCM Vin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Tra le importanti novità c’è il nuovo concetto di Denominazione di Origine dei Vini, sostanzialmente molto simile a quelli delle DOP e IG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elativamente ai controlli la nuova normativa ricalca quanto già previsto dal Reg. 510 delle DOP e IGP, affidando tali attività ad Enti Terzi di Certificazi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85840" y="5429160"/>
            <a:ext cx="8640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14200" y="5303880"/>
            <a:ext cx="846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egnaposto numero diapositiva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F3DB-7983-464A-ACB1-E3E14A99427A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olo 1" descr=""/>
          <p:cNvPicPr/>
          <p:nvPr/>
        </p:nvPicPr>
        <p:blipFill>
          <a:blip r:embed="rId1"/>
          <a:stretch/>
        </p:blipFill>
        <p:spPr>
          <a:xfrm>
            <a:off x="-6480" y="676440"/>
            <a:ext cx="8242560" cy="10490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500040" y="185688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Collabora con l’UOC nella predisposizione dei piani di controllo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Coordina, pianifica e attua il piano dei controlli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È costituito da personale addetto all’attività di controllo documentale 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È costituito da personale addetto all’attività di controllo ispettiv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Emette i pareri di conformità e non conformità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Rilascia fascette/ acquisisce il numero di lotto da parte del richiedent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Gestisce i dati di controllo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Il personale addetto all’attività di controllo non deve svolgere attività incompatibili con l’esercizio delle funzioni di controllo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Fornirà al Consorzio i dati necessari per la gestione in tempo reale  della/e Denominazione/i tutelate 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9758-ECB6-47AE-ACA1-1A1C8CFE33CF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olo 1" descr=""/>
          <p:cNvPicPr/>
          <p:nvPr/>
        </p:nvPicPr>
        <p:blipFill>
          <a:blip r:embed="rId1"/>
          <a:stretch/>
        </p:blipFill>
        <p:spPr>
          <a:xfrm>
            <a:off x="-30240" y="804960"/>
            <a:ext cx="8217000" cy="10476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È forma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dal direttore del dipartimento regolamentat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dai referenti delle denominazioni sottoposte a controll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dai coordinatori territoriali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Delibera sui pareri di non conformità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Decide le azioni da intraprendere in riferimento ad eventuali questioni di carattere generale e particolare , che emergono durante l’attività di contro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7941-D9F4-4DA5-9AA4-C9AF5D175C58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olo 1" descr=""/>
          <p:cNvPicPr/>
          <p:nvPr/>
        </p:nvPicPr>
        <p:blipFill>
          <a:blip r:embed="rId1"/>
          <a:stretch/>
        </p:blipFill>
        <p:spPr>
          <a:xfrm>
            <a:off x="493560" y="853920"/>
            <a:ext cx="7444080" cy="650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28760" y="235728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iceve i ricorsi sulle decisioni prese dal Comitato Esecutivo di Controll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e decisioni vengono prese all’unanimità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29BA-8A87-48FB-8D4D-2E3260D3D0AD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olo 1" descr=""/>
          <p:cNvPicPr/>
          <p:nvPr/>
        </p:nvPicPr>
        <p:blipFill>
          <a:blip r:embed="rId1"/>
          <a:stretch/>
        </p:blipFill>
        <p:spPr>
          <a:xfrm>
            <a:off x="566640" y="2419200"/>
            <a:ext cx="7864560" cy="1841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3000240" y="1857240"/>
            <a:ext cx="3143520" cy="2857680"/>
          </a:xfrm>
          <a:prstGeom prst="rect">
            <a:avLst/>
          </a:prstGeom>
          <a:ln w="0">
            <a:noFill/>
          </a:ln>
        </p:spPr>
      </p:pic>
      <p:sp>
        <p:nvSpPr>
          <p:cNvPr id="307" name="Segnaposto numero diapositiva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8AA8-0E1C-44FF-9E43-15B79DF936E0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Segnaposto contenuto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Segnaposto numero diapositiva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3610-79EB-43F0-B7CB-E404C0A84B43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Immagine 3" descr="Logo Federdocnero.png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428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C:\Users\amedeo\Desktop\valoritalia\Valoritalia_logo.jpg"/>
          <p:cNvPicPr/>
          <p:nvPr/>
        </p:nvPicPr>
        <p:blipFill>
          <a:blip r:embed="rId3"/>
          <a:stretch/>
        </p:blipFill>
        <p:spPr>
          <a:xfrm>
            <a:off x="8429760" y="357120"/>
            <a:ext cx="7142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numero diapositiva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E6AB-51D4-4ADC-8622-49E9BED3E62B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CasellaDiTesto 3" descr=""/>
          <p:cNvPicPr/>
          <p:nvPr/>
        </p:nvPicPr>
        <p:blipFill>
          <a:blip r:embed="rId1"/>
          <a:stretch/>
        </p:blipFill>
        <p:spPr>
          <a:xfrm>
            <a:off x="2139840" y="646200"/>
            <a:ext cx="4797360" cy="622080"/>
          </a:xfrm>
          <a:prstGeom prst="rect">
            <a:avLst/>
          </a:prstGeom>
          <a:ln w="0">
            <a:noFill/>
          </a:ln>
        </p:spPr>
      </p:pic>
      <p:sp>
        <p:nvSpPr>
          <p:cNvPr id="214" name="Rettangolo 4"/>
          <p:cNvSpPr/>
          <p:nvPr/>
        </p:nvSpPr>
        <p:spPr>
          <a:xfrm>
            <a:off x="285840" y="1785960"/>
            <a:ext cx="85010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'attuazione della riforma sulle Denominazioni di Origine  è entrata in vigore definitivamente con il 1° agosto 2009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n ambito nazionale il Governo è delegato ad adottare, entro 6 mesi dall’entrata in vigore della legge comunitaria 2008 ( C.2320 Governo, approvato dal Senato),  un decreto legislativo per l’attuazione del Reg CE n. 1234/07 (modifica legge 164/9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143920" y="57168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olo 1" descr=""/>
          <p:cNvPicPr/>
          <p:nvPr/>
        </p:nvPicPr>
        <p:blipFill>
          <a:blip r:embed="rId1"/>
          <a:stretch/>
        </p:blipFill>
        <p:spPr>
          <a:xfrm>
            <a:off x="281160" y="493560"/>
            <a:ext cx="7656480" cy="1231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0" y="178560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 principali aspetti dell’OCM vitivinicola riformata riguardan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Dotazioni finanziarie nazional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Diritti di impiant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liminazione progressiva dei regimi di distillazion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stirpazion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ratiche enologich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Nuova classificazione dei vin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ntroll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A63D-7F40-4B14-9C0F-D28BA156BFAC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olo 1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242560" cy="1225800"/>
          </a:xfrm>
          <a:prstGeom prst="rect">
            <a:avLst/>
          </a:prstGeom>
          <a:ln w="0">
            <a:noFill/>
          </a:ln>
        </p:spPr>
      </p:pic>
      <p:pic>
        <p:nvPicPr>
          <p:cNvPr id="221" name="Segnaposto contenuto 6" descr=""/>
          <p:cNvPicPr/>
          <p:nvPr/>
        </p:nvPicPr>
        <p:blipFill>
          <a:blip r:embed="rId2"/>
          <a:stretch/>
        </p:blipFill>
        <p:spPr>
          <a:xfrm>
            <a:off x="957240" y="1643040"/>
            <a:ext cx="7228080" cy="4075200"/>
          </a:xfrm>
          <a:prstGeom prst="rect">
            <a:avLst/>
          </a:prstGeom>
          <a:ln w="0">
            <a:noFill/>
          </a:ln>
        </p:spPr>
      </p:pic>
      <p:sp>
        <p:nvSpPr>
          <p:cNvPr id="222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898E-71BD-4A2D-AF7D-F9E19BACB4B5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C:\Users\amedeo\Desktop\valoritalia\Valoritalia_logo.jpg"/>
          <p:cNvPicPr/>
          <p:nvPr/>
        </p:nvPicPr>
        <p:blipFill>
          <a:blip r:embed="rId3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olo 1" descr=""/>
          <p:cNvPicPr/>
          <p:nvPr/>
        </p:nvPicPr>
        <p:blipFill>
          <a:blip r:embed="rId1"/>
          <a:stretch/>
        </p:blipFill>
        <p:spPr>
          <a:xfrm>
            <a:off x="493560" y="566640"/>
            <a:ext cx="8242560" cy="652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68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Nome di una regione, di un luogo determinato o, in casi eccezionali, di un paese che designa un prodotto le cui qualità, notorietà o altre</a:t>
            </a:r>
            <a:r>
              <a:rPr b="1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aratteristiche specifiche  sono attribuibili a tale origine geografica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e uve da cui è ottenuto provengono per almeno l’85% esclusivamente da tale zona geograf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e uve da cui è ottenuto provengono dalla specie </a:t>
            </a:r>
            <a:r>
              <a:rPr b="1" lang="it-IT" sz="2600" spc="-1" strike="noStrike">
                <a:solidFill>
                  <a:srgbClr val="000000"/>
                </a:solidFill>
                <a:latin typeface="Constantia"/>
              </a:rPr>
              <a:t>Vitis vinifera o dall’incrocio tra Vitis vinifera e altre specie del genere Vit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egnaposto numero diapositiva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96E3-187C-4B5A-9CAB-A03496F8D022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ext Box 4" descr=""/>
          <p:cNvPicPr/>
          <p:nvPr/>
        </p:nvPicPr>
        <p:blipFill>
          <a:blip r:embed="rId1"/>
          <a:stretch/>
        </p:blipFill>
        <p:spPr>
          <a:xfrm>
            <a:off x="633240" y="785880"/>
            <a:ext cx="8169480" cy="6220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457200" y="25909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14200" y="1643040"/>
            <a:ext cx="85010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Il nome di una regione, di un luogo determinato o, in casi eccezionali, di un paese che serve a designare un prodotto conforme ai seguenti requisit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la sua qualità e le sue caratteristiche sono dovute essenzialmente o esclusivamente ad un particolare ambiente geografico ed ai suoi fattori naturali e um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le uve da cui è ottenuto provengono esclusivamente da tale zona geogra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la su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onstantia"/>
              </a:rPr>
              <a:t>produzione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 avviene in detta zona geogra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è ottenuto da varietà di viti appartenenti alla specie Vitis vini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nstantia"/>
              </a:rPr>
              <a:t>N.B.: è facoltà dello S.M. adottare dei provvedimenti più restrittivi in merito all’imbottigliamento in zona di produzion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egnaposto numero diapositiva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54C5-2100-4254-9B85-8DA31DF008EF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ext Box 2" descr=""/>
          <p:cNvPicPr/>
          <p:nvPr/>
        </p:nvPicPr>
        <p:blipFill>
          <a:blip r:embed="rId1"/>
          <a:stretch/>
        </p:blipFill>
        <p:spPr>
          <a:xfrm>
            <a:off x="-42840" y="712800"/>
            <a:ext cx="8143920" cy="1079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654120" y="2940120"/>
            <a:ext cx="66945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143080" y="1785960"/>
            <a:ext cx="4336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Constantia"/>
              </a:rPr>
              <a:t>I  fase:  Produzione delle U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785880" y="2428920"/>
            <a:ext cx="74293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resentazione del Viticoltore della denuncia di Produzione delle Uve alla Camera di Commer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143000" y="4071960"/>
            <a:ext cx="6367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857160" y="4786200"/>
            <a:ext cx="7346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ilascio ricevuta  uve dalla Camera di Commercio previo controllo delle rese di uva/ettaro come da Disciplinare di Produ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ccia in giù 9"/>
          <p:cNvSpPr/>
          <p:nvPr/>
        </p:nvSpPr>
        <p:spPr>
          <a:xfrm>
            <a:off x="4000680" y="3500280"/>
            <a:ext cx="785520" cy="114300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076a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egnaposto numero diapositiva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4306-76E3-45FB-9DC1-7F2CD8176983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C:\Users\amedeo\Desktop\valoritalia\Valoritalia_logo.jpg"/>
          <p:cNvPicPr/>
          <p:nvPr/>
        </p:nvPicPr>
        <p:blipFill>
          <a:blip r:embed="rId2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500040" y="785880"/>
            <a:ext cx="7265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Constantia"/>
              </a:rPr>
              <a:t>II fase: Produzione ed imbottigliamento del Vi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214200" y="1285920"/>
            <a:ext cx="8929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Richiesta idoneità della partita per  la relativa  D.O. alla C.C.I.A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428760" y="2428920"/>
            <a:ext cx="83278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Analisi chimico-fisica ed organolettica operata da apposite commissioni di degust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Rilascio del certificato di idoneità alla D.O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Per le sole DOCG: consegna delle fascette di garanzia, stampate dall'Istituto Poligrafico di St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428760" y="4929120"/>
            <a:ext cx="84898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Tali controlli sono sistematici e preventivi, su tutta la produzione, per fornire ai consumatori le massime garanzie in termini di conformità del prodotto al  Disciplinare di P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ccia in giù 6"/>
          <p:cNvSpPr/>
          <p:nvPr/>
        </p:nvSpPr>
        <p:spPr>
          <a:xfrm>
            <a:off x="4572000" y="1785960"/>
            <a:ext cx="6429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ccia in giù 7"/>
          <p:cNvSpPr/>
          <p:nvPr/>
        </p:nvSpPr>
        <p:spPr>
          <a:xfrm>
            <a:off x="4572000" y="2928960"/>
            <a:ext cx="6429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9a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egnaposto numero diapositiva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8A3E-DE95-4DB3-B1DB-0CFB7B03C019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C:\Users\amedeo\Desktop\valoritalia\Valoritalia_logo.jpg"/>
          <p:cNvPicPr/>
          <p:nvPr/>
        </p:nvPicPr>
        <p:blipFill>
          <a:blip r:embed="rId1"/>
          <a:stretch/>
        </p:blipFill>
        <p:spPr>
          <a:xfrm>
            <a:off x="8072280" y="571680"/>
            <a:ext cx="1071720" cy="803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8:55:38Z</dcterms:created>
  <dc:creator>amedeo</dc:creator>
  <dc:description/>
  <dc:language>en-US</dc:language>
  <cp:lastModifiedBy>Utente</cp:lastModifiedBy>
  <dcterms:modified xsi:type="dcterms:W3CDTF">2010-01-20T10:58:32Z</dcterms:modified>
  <cp:revision>198</cp:revision>
  <dc:subject/>
  <dc:title>SISTEMA DI CONTROLLO E TRACCIABILITA’ DELLA PRODUZIONE DEI VINI A DENOMINAZIONE DI ORIGINE</dc:title>
</cp:coreProperties>
</file>